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1DBFDC-C79F-449A-A616-7A6371AE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5B67F4-B111-4F04-BA5E-56511ED4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9C071A-5256-4E72-B05A-1539CF09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C23F1-75A8-4B28-B42F-6C7DE2D1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66B735-65FD-4CD0-923D-71480A7C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819A54-AE66-417A-9500-A665925F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DB8A85-3EFA-4C99-B447-60B0E87A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9C4E9-5138-4CD0-90EC-B53F45C2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C3D70-4D04-4ACF-A66F-E8D3F4B7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B2C1C-5C2A-4A9D-9A49-D64E2DED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94ECD-C4D6-44D5-B7E1-3E70AE15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A56CF-D814-4813-B574-645C217E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C5FA3-9DF2-4193-A324-A1931B0A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6B507-BDCA-43B3-A501-1A74EED1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31CF1-8C6F-407C-9C1E-7926167D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78EA9-8505-4042-B6C2-0FB625BB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F99A9-435D-4311-A1D0-4CE85B90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B8A60-43AE-4D6F-BF1F-D425654C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1C828-03E6-44BA-B342-0C49FBDA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ED7D8-897F-4841-AAF6-A98C3F22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7E513-14E5-4B63-A208-EE82D29E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43CEE-3A3D-4A78-A1F9-B6156576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B0D8F-638C-401C-8C56-3916F41F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1F4B4-0782-4517-A4F6-1DAC9D7B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1FC9C-7DB2-404D-B452-264F2A42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1C13F-2933-44B0-B254-7E40F29C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D4E6A-49F4-42B0-AFFB-D8BC2954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EF94B-3BAF-4FE8-8E16-0E74BCE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89757-4496-46EB-BFC9-1463135A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BEC5E-BD2B-42B7-8903-6E37777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D4CBD-DC14-4F49-86CB-66B273F6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02B7F-52ED-48E2-8580-D07534D1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2AF2C-435E-47C3-B4B7-533486AD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EFD4E-6FA2-48E5-9ABC-A68AF9D2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7C114-9135-4EE6-9B20-D72B0265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BB472-B2BD-49E1-B7C8-E385B588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F7DB3-6EDB-4ED7-8187-F15E78EE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E2620-53F5-4621-90C0-081D2A68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EEC49-371B-4FBF-8DDA-A1ABEADD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1AF27-83AB-49B7-982D-81D8601E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A2FFAF-FC27-461A-85E8-5E171773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36AC8B-10DC-4C16-B942-8219C0D7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65235-D900-4320-A163-14A96058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59358-13A5-403D-B2ED-7682D2F7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17383-D013-4E49-A639-5BEBA31C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4676F-2D87-4A6E-8FF8-4E68EB9C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78C31-048B-4B50-9FC5-1BB3A851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08A39-7814-46AC-9894-91AB7986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258C7-D0BA-400A-A986-CB1A939A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42D17-2013-4EEC-A4D3-D2686818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F67B1-6338-4507-A326-5CEC3226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B9765-CC9C-4818-BD58-0CC5B2D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20776-FCCE-4D37-9B5F-672B01B8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38A21-1A5F-49CD-90FD-8FEF967C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2F9DC-7304-4DE5-AEF7-F97794C6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6856D-EBB7-4921-B2F5-5DF294D7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10FA8-6A43-488A-BC60-B6783DA8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8EE02-A710-4D54-98D6-94C50B19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BFA29-5AFA-43C8-92FF-810707FE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050D9-406C-4AC8-9112-61E54937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C069B-E22B-4517-80D4-B2EF59A7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31732-9AFD-41F1-906D-1CC179A6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1157F-C586-4C22-8BA1-3BCEA137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16175-4C32-4109-BBE7-008DFC6A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5AA9C-28ED-4B07-B77A-74363DC8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50DAA-7FF9-467C-9D4F-72B02EE6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DA516-B6E8-4C3F-9C40-CB6FA252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6F37E-D4EB-4C2E-9F65-F1FB4CE3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9F058D-8755-433C-AD7E-91B4F51F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7C858-839C-47CF-B0D7-0CF723ED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DA148-35D9-4F25-B208-406C11A2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F05A2-877C-44CD-B6D4-3BE87956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18516-4B03-4352-9FFA-7133806F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5779A-48E3-4C28-8DF2-70691553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96996-C67A-4FC9-A7F3-7EAE24CB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900C7-33D9-4615-88BF-5F01B0AA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57C6E-1A49-4C5C-B5C6-F01A9642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98135-BBEA-4232-9FE2-3BF3CC7E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C84E8-4927-46EC-81F5-3D9CFE12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6BF64-6115-47D4-B566-DFA2E478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6B158-4BB5-4487-9AB7-0623F425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A532E8-C418-4573-B506-535C22B4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76652-6A16-4321-8CE8-2846EACD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676374-B771-4824-971A-3033F211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C1320B-275A-45EE-8490-3DF8D30E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C02F68-B527-4BF5-8C1F-FF16B844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218BD3-681F-4751-B0FB-C2DAB872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BC34B4-B8C7-4774-B099-EC540F97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CD5AE-CEE1-4C58-B9A7-D84B9D48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DD5FD6-0CC9-4539-A1BB-62E58D4D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E23AC8-E7CE-4BA0-9E09-7C358168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251372-2439-420B-BE04-50F1CEEB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F6258E-AA82-4333-B760-382B7488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38B761-1C3F-4F34-9121-AF132495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270AC8-5103-42B3-95C3-C11EF712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7C8E10-F9CA-4317-BD64-8103BAB1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5843-BFE0-48C1-B510-E31B35539D4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FDED-DCFF-49D9-B32A-E3FEE52C88AB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54C9-8B72-4BCB-9775-C06DEAA5911A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3E29-5F76-49E8-9681-26B03539254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2A99-0B9E-4274-AACC-05BFF59A9753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8163-DDF7-470F-B4EE-F8FFEF7ABEA8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B4BF-69A4-41C6-9152-0A1E5A732A4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7DC-B20B-4981-BEEE-123C7E432F1B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p 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2462040" y="1319040"/>
            <a:ext cx="421992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p 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Pop art is </a:t>
            </a:r>
            <a:r>
              <a:rPr b="0" lang="en-US" sz="3200" spc="-1" strike="noStrike">
                <a:solidFill>
                  <a:srgbClr val="040c28"/>
                </a:solidFill>
                <a:latin typeface="Comic Sans MS"/>
              </a:rPr>
              <a:t>a style of art based on simple, bold images of everyday items, such as soup cans, painted in bright colors</a:t>
            </a: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Pop artists created pictures of consumer product labels and packaging, photos of celebrities, comic strips, and anim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Pop artists: Andy Warhol; Roy Lichenstein; David Hockn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Andy Warhol Portraits: A Definitive Guide"/>
          <p:cNvPicPr/>
          <p:nvPr/>
        </p:nvPicPr>
        <p:blipFill>
          <a:blip r:embed="rId1"/>
          <a:stretch/>
        </p:blipFill>
        <p:spPr>
          <a:xfrm>
            <a:off x="1898640" y="620640"/>
            <a:ext cx="534672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Warhol program hopes ARC's display will interest students | Andy warhol,  Warhol, Andy warhol artwork"/>
          <p:cNvPicPr/>
          <p:nvPr/>
        </p:nvPicPr>
        <p:blipFill>
          <a:blip r:embed="rId1"/>
          <a:stretch/>
        </p:blipFill>
        <p:spPr>
          <a:xfrm>
            <a:off x="2319480" y="976320"/>
            <a:ext cx="45050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Girl hair ribbon, 1965 by Roy Lichtenstein (1923-1997, United States) |  Museum Art Reproductions Roy"/>
          <p:cNvPicPr/>
          <p:nvPr/>
        </p:nvPicPr>
        <p:blipFill>
          <a:blip r:embed="rId1"/>
          <a:stretch/>
        </p:blipFill>
        <p:spPr>
          <a:xfrm>
            <a:off x="2357280" y="907920"/>
            <a:ext cx="4429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Discover the Brazilian Pop Art Artist Lobo - Lobo Pop Art"/>
          <p:cNvPicPr/>
          <p:nvPr/>
        </p:nvPicPr>
        <p:blipFill>
          <a:blip r:embed="rId1"/>
          <a:stretch/>
        </p:blipFill>
        <p:spPr>
          <a:xfrm>
            <a:off x="1401840" y="765000"/>
            <a:ext cx="63403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Andy Warhol Pop Art Portraits - Lessons - Blendspace"/>
          <p:cNvPicPr/>
          <p:nvPr/>
        </p:nvPicPr>
        <p:blipFill>
          <a:blip r:embed="rId1"/>
          <a:stretch/>
        </p:blipFill>
        <p:spPr>
          <a:xfrm>
            <a:off x="1967040" y="1257480"/>
            <a:ext cx="5209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What is Pop Art? A Guide to the Pop Art Movement | Rise Art"/>
          <p:cNvPicPr/>
          <p:nvPr/>
        </p:nvPicPr>
        <p:blipFill>
          <a:blip r:embed="rId1"/>
          <a:stretch/>
        </p:blipFill>
        <p:spPr>
          <a:xfrm>
            <a:off x="2373480" y="527040"/>
            <a:ext cx="439704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create a self-portrait using Pop Art techniques. To do this you need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bright colou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bold patter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raw large simple sha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ll the whole piece of pap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1T10:27:10Z</dcterms:created>
  <dc:creator>Anne</dc:creator>
  <dc:description/>
  <dc:language>en-US</dc:language>
  <cp:lastModifiedBy>anne.pillar@gmail.com</cp:lastModifiedBy>
  <dcterms:modified xsi:type="dcterms:W3CDTF">2023-05-18T10:47:06Z</dcterms:modified>
  <cp:revision>10</cp:revision>
  <dc:subject/>
  <dc:title>Slide 1</dc:title>
</cp:coreProperties>
</file>